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A7E-A21A-46B1-B061-467C5FCE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9448-B336-4CC1-8662-3C8A0D2B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3B5-BDDA-44F7-935A-63221DED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1A5-BCF7-458B-8A5A-ED86A033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CB0-A268-4E34-9D99-5F39CCF21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E9F1-0C1C-4DDC-94E5-2CCBEFDD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752-A1C1-4F50-8C9E-3FA3719D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CC8-2DBB-493D-998F-49A699D1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0CC-9E19-4C23-A682-4BAACB4C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84B-AC70-4309-ADD0-75CC605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1DA-2B7F-4A66-A100-F059A061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7C8-99E2-4FB4-BBD4-52DC2989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E20A-2FB5-4B39-9A7E-2627256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B8B-3C92-4F08-B617-42B7ED8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6F9-C9B4-45BF-BDD6-5D4659A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3021-1D79-496D-878C-C07FC1A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AA5-24B6-42F0-92A6-70600936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A6B3-7E9B-4CDD-87A1-D63A60F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CA3-F839-4732-A5AE-B6F181B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32F3-D499-4765-B87B-A7238AA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0A57-9BBE-4991-B9A7-0C5BF7B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2E4-BF93-4CB9-A08D-B5755071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75B4-6D4C-4F25-BDBF-6706CEF7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8B9-8E8E-4D3D-B3A2-CE86FC12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074-997C-41B5-B07A-C040BCD5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20F-32F5-490B-9FF0-DCDB7B4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E60-648C-4EE6-80AC-A8A00F4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8A6-F88B-4E30-A9C5-0E34F50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EC0-95F0-4129-B423-12162C08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AD1-BAF0-40FF-9C22-0302D3F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050-DB15-4F7D-9F0E-64FE581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064-0344-4AFA-A4F6-43DE48BF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282-A773-4BB7-B5BA-CCE097B3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plication and Division of Inte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e Rul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ying and dividing signed numbers, the same rules app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ote that this rule is not the same as addition or subtr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plication and Division Ru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ying or dividing signed numb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gns are the same (both positive or both negative) then the final answer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gns are different, then the final answer is nega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600200" y="1828800"/>
                <a:ext cx="241452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¸-</m:t>
                        </m:r>
                        <m:r>
                          <m:t xml:space="preserve">3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·-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295280" y="2057400"/>
                <a:ext cx="158436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7</m:t>
                        </m:r>
                        <m:r>
                          <m:t xml:space="preserve">·</m:t>
                        </m:r>
                        <m:r>
                          <m:t xml:space="preserve">8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1338120" y="2131920"/>
          <a:ext cx="28418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2131920"/>
                    <a:ext cx="28418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8:52:01Z</dcterms:created>
  <dc:creator>PA Department of Education</dc:creator>
  <dc:description/>
  <dc:language>en-US</dc:language>
  <cp:lastModifiedBy>psd</cp:lastModifiedBy>
  <dcterms:modified xsi:type="dcterms:W3CDTF">2012-09-21T12:23:27Z</dcterms:modified>
  <cp:revision>5</cp:revision>
  <dc:subject/>
  <dc:title>Multiplication and Division of Signed Numbers</dc:title>
</cp:coreProperties>
</file>